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2657-21F6-4FB5-B81E-3A9EDCC17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D3AF-082B-44FE-8ACB-D16138BBE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D26A-5A3A-461F-A150-2BA43CADB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A478-F20A-42BB-84BA-4F3642282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8FBB2-A9EA-4F94-9CAC-34956852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E2D9A-255C-400A-9AE6-CD5F35F7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B95ED-36CB-4B42-AF57-6ED979FE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2AB4B-F88C-4C0F-A5BD-BC03D2D9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B24A2-DE40-4B14-97D4-514BF5A7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312D6-A22E-4314-8589-24BEA6FB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C8C89-4D53-4982-946B-C8039478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4922-1BE4-4BBA-B5A9-A28EF1408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17490-E914-4588-AF3B-BD6EF3E2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25C72-84C6-4DF6-BBB7-354B688F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EB9C0-76E2-4DEB-B7E4-F432BA94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752B1-DDD2-4AF3-A760-B0C820AD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D0C52-4BB8-430D-B799-4F14DC27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A56D-A6CA-49C7-9F0D-7713B2D03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2754-2D7E-4EC5-8CBE-17210F08A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471A-CCE6-49B9-94A4-44589487A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9FC2-847B-421C-A622-A076AD444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23AB-2F41-4D2D-9CEB-242926F54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E560-AD85-47F8-94E3-BC4ACF787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803F-6C9D-4299-A5B6-7A21133DB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1B3F-2CE2-43C1-8677-2DC6410A3B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A501-BC75-44B6-91B5-BFC99294B3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XTCGKkpWmU" TargetMode="External"/><Relationship Id="rId2" Type="http://schemas.openxmlformats.org/officeDocument/2006/relationships/hyperlink" Target="http://www.youtube.com/watch?v=KXOkNOoVFJ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E8F1-A164-437F-BECE-4BF94BDCD0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mall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yourselves with those who worked with student samples from the sam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4474-4C78-4BEB-9866-D747AD1478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arge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your chart paper or spread out on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gallery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following focus questions during your gallery wal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o you have any insights that you would like to share with the whole grou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s this (or any part of this) like something you have used in the classroom?  Particularly in relation to misconceptions with fraction concep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1326-AE17-4979-852B-DF7758D573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en Ways to Assess Without Putting a Mark on Pa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Setting and Using Criteri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Kathleen Gregory, Caren Cameron, Anne Davies, Connections Publishing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89DC-E9CF-493D-A4DE-B0829B0431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, I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mpl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of, Les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.B. (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ecific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ing Acr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xt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077F-C41D-4B80-A20B-2FE6E47B17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minute and think about what you’ve heard, discussed, and done during the plenary and breakout session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 idea, a comment, or a strategy, that caught your attentio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E8A5-E6E5-4E30-B88B-E000EA142A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/enhance their giving of descriptive feedback through examination of student work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n their understanding of fraction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7EAA-B340-40EC-8E0B-B27D7D7FD5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7190-D993-440C-B61A-59C685B11B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cing With the Stars - Best Judges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erican Idol - Taylor Hicks' Au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C489-9EFE-4F7B-A366-58B033D161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066680"/>
          <a:ext cx="8458200" cy="426744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  <a:gridCol w="2133360"/>
                <a:gridCol w="2286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ivational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valuativ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tell”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ask”)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27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ake the learner feel go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encourage and support the learn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 “Good work”, “Much improved”, “Very creativ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easure student achievement with a score or gr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summariz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73%”, “Level 2”, “Needs Improvement-Satisfactory-Good-Excellent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improv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ll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the learner what needs to be improv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gives specific guidance as to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Your equations are correct.  Remember to use proper problem solving format.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for students to internalize the feedbac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k questions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which will prompt the learner to independently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I can see your pattern works for the 2 examples you have given.  Will it work for all values of n?  How would you prove this?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ocus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y overlap among the types of feedback?  How? 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certain types of feedback “better” than others?  How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certain types of feedback more appropriate for certain types of tasks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F0CB-F24F-464B-9562-42C66BF886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9880" y="1371600"/>
          <a:ext cx="8040600" cy="4044960"/>
        </p:xfrm>
        <a:graphic>
          <a:graphicData uri="http://schemas.openxmlformats.org/drawingml/2006/table">
            <a:tbl>
              <a:tblPr/>
              <a:tblGrid>
                <a:gridCol w="1865520"/>
                <a:gridCol w="1866600"/>
                <a:gridCol w="217440"/>
                <a:gridCol w="1845000"/>
                <a:gridCol w="224604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atio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“tell”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“ask”) 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motiva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evalu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primarily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ll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the student how to correct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k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student what to do to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32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to encourage and support the lear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sure student achievement with a score or a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 by indicating to the student what needs to be impr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, by moving student reasoning to the next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m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cxnSp>
        <p:nvCxnSpPr>
          <p:cNvPr id="109" name="Straight Arrow Connector 8"/>
          <p:cNvCxnSpPr/>
          <p:nvPr/>
        </p:nvCxnSpPr>
        <p:spPr>
          <a:xfrm>
            <a:off x="2057040" y="5103360"/>
            <a:ext cx="5258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s – 5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n assignment, Jaime received the following sc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A:            Section B:            Tot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ie was confused, because using what she knew about fractions, she didn’t think that              .  How  would you explain this to Ja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Show what you know about        and       .  Use different representations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Give a real life example of a problem where the solution could involve dividing by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What do you know about          ?  Use diagrams, numbers, algebra, words, etc.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Create a sentence that makes sense that includes ALL of these words and numbers:  improper, fraction, simple, challenging,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CBBB-14E9-4F2F-BB4C-F8082DE4B7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BF31-4476-4169-816C-E965C57AD3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2565360" y="1523880"/>
                <a:ext cx="177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268360" y="3600360"/>
                <a:ext cx="169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3743280" y="3809880"/>
                <a:ext cx="4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2610000" y="16765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2743200" y="2197080"/>
                <a:ext cx="698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3962520" y="2743200"/>
                <a:ext cx="317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2"/>
              <p:cNvSpPr txBox="1"/>
              <p:nvPr/>
            </p:nvSpPr>
            <p:spPr>
              <a:xfrm>
                <a:off x="4343400" y="1523880"/>
                <a:ext cx="1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5707080" y="1523880"/>
                <a:ext cx="236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4876920" y="2751120"/>
                <a:ext cx="3045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riting 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5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1, 2, or 3 samples of student work for tha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with a partner to analyze the student thinking and write descriptive feedback using a 4-colour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6242-D980-498B-9495-3C80FDC8ED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4-Colour Strateg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and paste the sample in the middle of a piece of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the following around the s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the student knows (</a:t>
            </a:r>
            <a:r>
              <a:rPr b="0" lang="en-CA" sz="2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knowledge/understanding seems fragile (</a:t>
            </a:r>
            <a:r>
              <a:rPr b="0" lang="en-CA" sz="2200" spc="-1" strike="noStrike">
                <a:solidFill>
                  <a:srgbClr val="ffc000"/>
                </a:solidFill>
                <a:latin typeface="Arial"/>
              </a:rPr>
              <a:t>orang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questions you might ask the student to expose and evoke thinking (</a:t>
            </a:r>
            <a:r>
              <a:rPr b="0" lang="en-CA" sz="2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a descriptive feedback comment might look like on the student work based on the above thinking (bl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6DE4-FD25-4079-ADAF-A194DBE249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09T19:02:08Z</dcterms:modified>
  <cp:revision>23</cp:revision>
  <dc:subject/>
  <dc:title>&lt;Title&gt;</dc:title>
</cp:coreProperties>
</file>